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6849-1C00-45CE-AF57-4F13D3DA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3E85-5EA6-43EC-9F43-D1A667629092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B69C-8B51-4F83-B602-D652C537EFDD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A5FE-6D70-45F0-8CFC-5B9D968A269D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51A1-76B3-44DF-8EB4-C8FD2208F0B0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C578-49C8-4FEF-A6D0-5BB400792394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A12-C043-4DAE-BDCD-26150E80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0AE-23B7-4D48-80FB-5EB8835A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56A-A57A-421C-801C-56D09F61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46D-22D8-4B56-B404-B328F797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2E8-330D-4F09-8B3D-355C1845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5CD-9D50-413E-9D23-93522DF0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5F0-7381-46B4-9AE2-7F413FCB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20B-2BD9-4398-9E4C-8E2A0877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560-B60B-4015-A6D6-866D168A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6EA-421D-410B-A6DB-99B1B7A0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024-520D-41DA-8979-4382DB9C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7CD-B882-43EE-AE54-3225167E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2199-76D7-49EC-BDC6-920CA5EC9C54}" type="slidenum">
              <a: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Happy 228th Birthday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US Constitution </a:t>
            </a:r>
            <a:endParaRPr b="0" lang="en-US" sz="44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90560" y="37339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itution Day/ Citizenship 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tember 17th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Structure of the Constitution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amble- Establishes 6 Goals that have still remained over 200 years lat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ticle I- Legislative Bra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ticle II- Executive Bra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ticle III- Judicial Bra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se three articles outline separation of powers and checks and balan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ticle IV- Clarifies relationship between national and state gov’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ticle V-Amendment Proc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ticle VI-Supremacy of National la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ticle VII- Ratification proc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onstitution 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onstitution Structure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ll of Rights + Amend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7 Amend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791- Bill of Rights added to ensure for the ratification of Constit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48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Ratification of the  Constitution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520" y="25146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gned on September 17, 178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bmitted to States for approv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al conventions were hel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erce Debate took pla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ederalists &amp; Anti-Federalis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Lucida Handwriting"/>
              </a:rPr>
              <a:t>Electoral Colleg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Lucida Handwriting"/>
              </a:rPr>
              <a:t>Required   270 to Win</a:t>
            </a:r>
            <a:endParaRPr b="0" lang="en-US" sz="2000" spc="-1" strike="noStrike">
              <a:solidFill>
                <a:srgbClr val="ffff00"/>
              </a:solidFill>
              <a:latin typeface="Lucida Handwriting"/>
            </a:endParaRPr>
          </a:p>
        </p:txBody>
      </p:sp>
      <p:pic>
        <p:nvPicPr>
          <p:cNvPr id="59" name="Content Placeholder 3" descr="2012-Electoral-College-map.jpg"/>
          <p:cNvPicPr/>
          <p:nvPr/>
        </p:nvPicPr>
        <p:blipFill>
          <a:blip r:embed="rId1"/>
          <a:srcRect l="0" t="2681" r="0" b="2681"/>
          <a:stretch/>
        </p:blipFill>
        <p:spPr>
          <a:xfrm>
            <a:off x="380880" y="1143000"/>
            <a:ext cx="818208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Anti-Federalist Argumen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y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Federalis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Argument 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y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3:27:30Z</dcterms:created>
  <dc:creator>WPS</dc:creator>
  <dc:description/>
  <dc:language>en-US</dc:language>
  <cp:lastModifiedBy>WPS</cp:lastModifiedBy>
  <dcterms:modified xsi:type="dcterms:W3CDTF">2015-09-11T13:04:27Z</dcterms:modified>
  <cp:revision>12</cp:revision>
  <dc:subject/>
  <dc:title>Happy 222nd Birthday  US Constitution </dc:title>
</cp:coreProperties>
</file>